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C73-B1BF-4759-889D-597DFCE2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782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0320" y="3805920"/>
            <a:ext cx="782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505-EEA6-4664-AF3C-08247796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0320" y="380592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1080" y="380592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5AF-78B9-4E12-A096-CDAFF427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6680" y="126828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3040" y="126828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0320" y="380592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6680" y="380592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3040" y="3805920"/>
            <a:ext cx="2520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C0A-0733-464D-8E1E-F8FE05CD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0320" y="1268280"/>
            <a:ext cx="7826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8CF-1018-42FE-BD5C-EA7BBDB1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7826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AF7-5A28-4674-BC63-538B9BD0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3E2-ADC1-4369-855F-BE84F54B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84B-396E-4C48-82BA-6A561FBA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49600" y="372960"/>
            <a:ext cx="681480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1F4-75B0-44DF-931F-D3CDD58D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0320" y="380592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247-B0D8-42C0-9929-4ADA4B9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1080" y="380592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7A8-633A-435D-A943-2CA8C88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032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1080" y="1268280"/>
            <a:ext cx="38192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0320" y="3805920"/>
            <a:ext cx="782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847-517D-40CE-8A13-153753B6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TF_PPT_Background_100dpi.png"/>
          <p:cNvPicPr/>
          <p:nvPr/>
        </p:nvPicPr>
        <p:blipFill>
          <a:blip r:embed="rId2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Click to edit the title text format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0320" y="1268280"/>
            <a:ext cx="7826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F4901-BC71-4D67-9654-BBF1932A6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FilmEdLogo.png"/>
          <p:cNvPicPr/>
          <p:nvPr/>
        </p:nvPicPr>
        <p:blipFill>
          <a:blip r:embed="rId3"/>
          <a:stretch/>
        </p:blipFill>
        <p:spPr>
          <a:xfrm>
            <a:off x="6927840" y="6383160"/>
            <a:ext cx="1658880" cy="273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FDALogo.png"/>
          <p:cNvPicPr/>
          <p:nvPr/>
        </p:nvPicPr>
        <p:blipFill>
          <a:blip r:embed="rId4"/>
          <a:stretch/>
        </p:blipFill>
        <p:spPr>
          <a:xfrm>
            <a:off x="2828880" y="6264360"/>
            <a:ext cx="1554120" cy="511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LGTLogo.png"/>
          <p:cNvPicPr/>
          <p:nvPr/>
        </p:nvPicPr>
        <p:blipFill>
          <a:blip r:embed="rId5"/>
          <a:stretch/>
        </p:blipFill>
        <p:spPr>
          <a:xfrm>
            <a:off x="4911840" y="6343560"/>
            <a:ext cx="155412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F_PPT_FrontPage_100dpi_Option2.png"/>
          <p:cNvPicPr/>
          <p:nvPr/>
        </p:nvPicPr>
        <p:blipFill>
          <a:blip r:embed="rId1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600" y="2865240"/>
            <a:ext cx="5024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a60c1c"/>
                </a:solidFill>
                <a:latin typeface="Geneva"/>
              </a:rPr>
              <a:t>MFL DVD Resource</a:t>
            </a:r>
            <a:endParaRPr b="0" lang="en-US" sz="40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312920" y="3505320"/>
            <a:ext cx="3614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56a"/>
                </a:solidFill>
                <a:latin typeface="Geneva"/>
                <a:ea typeface="Geneva"/>
              </a:rPr>
              <a:t>TOPIC: CUL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0320" y="1271160"/>
            <a:ext cx="77184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rite a description of each student. Mention hi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ppearance, his clothes, his demeanor and attitud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(40 words per person)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or draw three students in 2010, one from each country: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Great Britain, France and Germany. Do an oral compariso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your drawn students with the students from the film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r example: The German boy from 2010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s wearing trainers, but the one from 1913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as wearing leather boot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6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you could talk about your nationality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ith such pride at school? Why/why no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age_4.png"/>
          <p:cNvPicPr/>
          <p:nvPr/>
        </p:nvPicPr>
        <p:blipFill>
          <a:blip r:embed="rId1"/>
          <a:stretch/>
        </p:blipFill>
        <p:spPr>
          <a:xfrm>
            <a:off x="1467000" y="3317760"/>
            <a:ext cx="6126120" cy="2614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0320" y="1271520"/>
            <a:ext cx="7718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 comedy where a postmaster in Southern Franc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gets transferred to a remote region in Northern Franc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15:51 &gt; 01:18:38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Julie arrives in Bergues and is being shown around by Antoine and his colleagues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0320" y="1271160"/>
            <a:ext cx="7718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what there is and isn’t in Bergues mining villag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(look up and review some words that usefully describ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wn and rural life beforehand)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might be (culturally) lacking, and wh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stereotype might the ‘residents’ be playing up to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ign a leaflet to advertise your area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attract new busines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Bienvenue chez les Ch’t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0320" y="1271520"/>
            <a:ext cx="77184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Use this scene to start a research task abou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very rural northern communities in France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groups produce a well researched voice-over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accompany the clip in the style of a mock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cumentary on thi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Image_5.png"/>
          <p:cNvPicPr/>
          <p:nvPr/>
        </p:nvPicPr>
        <p:blipFill>
          <a:blip r:embed="rId1"/>
          <a:stretch/>
        </p:blipFill>
        <p:spPr>
          <a:xfrm>
            <a:off x="2014560" y="3122640"/>
            <a:ext cx="5175360" cy="28033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Persepol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0320" y="1271160"/>
            <a:ext cx="771840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Persepolis is the poignant story of a young girl in Ira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uring the Islamic Revolutio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15:48 &gt; 01:17:25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eneva"/>
              </a:rPr>
              <a:t>Marji questions authority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Persepol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0320" y="1271520"/>
            <a:ext cx="7718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feel about Marji’s comments about th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unfairness of religion? Do you agree that there appear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o be a level of hypocrisy being shown by the me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nd if so, what might their response b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is the scene set up to illustrate the division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etween men and women that the committe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members are seeking to widen further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Persepolis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0320" y="1271520"/>
            <a:ext cx="7718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you think about the discussio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e garden afterwards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id you learn about the attitudes and thought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of the two women? How do you react to them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re you in agreement with some of the attitudes expressed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_1.png"/>
          <p:cNvPicPr/>
          <p:nvPr/>
        </p:nvPicPr>
        <p:blipFill>
          <a:blip r:embed="rId1"/>
          <a:stretch/>
        </p:blipFill>
        <p:spPr>
          <a:xfrm>
            <a:off x="1254240" y="3005280"/>
            <a:ext cx="6649920" cy="283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ean de Florette is a French historical drama film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irected by Claude Berri, based on a novel by Marcel Pagnol. 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03:55 &gt; 01:05:35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Cultural differences between the villagers and the city folk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y do you think the family goes into the villag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re the men of the village in the middle of doing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re the obvious differences between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Concordet family and the village peopl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is the attitude of the servers at the baker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happens when the family leave the baker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might be the feelings of Jean the hunchback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at this tim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ean de Florett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magine you are Manon, the little girl. Before going to bed th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evening, you write in your private diary. Tell what happened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the village and describe your feeling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Start: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eneva"/>
              </a:rPr>
              <a:t>Mon cher journal,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eneva"/>
              </a:rPr>
              <a:t>Aujourd’hui c’était une journée…</a:t>
            </a:r>
            <a:r>
              <a:rPr b="0" i="1" lang="en-US" sz="2000" spc="-1" strike="noStrike">
                <a:solidFill>
                  <a:srgbClr val="ffffff"/>
                </a:solidFill>
                <a:latin typeface="Gene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pairs, imagine the conversation between Jean and hi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ife Aimée that evening. Create a dialogue that lasts a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least 2 minute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age_2.png"/>
          <p:cNvPicPr/>
          <p:nvPr/>
        </p:nvPicPr>
        <p:blipFill>
          <a:blip r:embed="rId1"/>
          <a:stretch/>
        </p:blipFill>
        <p:spPr>
          <a:xfrm>
            <a:off x="3741840" y="3313080"/>
            <a:ext cx="4649760" cy="2627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La Haine is a French black-and-white film written,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o-edited, and directed by Mathieu Kassovitz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t is about three teenage friends and their struggle to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live in the banlieues (outskirts) of Paris, during the riot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11:44 &gt; 01:15:38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three protagonists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find themselves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n an art gallery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three protagonists find themselves inside an art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gallery at an opening event. Make a list of differences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between the boys and the guests at the gallery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you think they fit in? Why/no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s their response justified?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La Haine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ave you been / would you go to an art gallery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are your views on street art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escribe the people you saw there/think you would see there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Image_3.png"/>
          <p:cNvPicPr/>
          <p:nvPr/>
        </p:nvPicPr>
        <p:blipFill>
          <a:blip r:embed="rId1"/>
          <a:stretch/>
        </p:blipFill>
        <p:spPr>
          <a:xfrm>
            <a:off x="3608280" y="3146400"/>
            <a:ext cx="4694400" cy="26510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0320" y="1272960"/>
            <a:ext cx="7718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Joyeux Noël is a film about the World War I unofficial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Christmas truce of December 1914, depicted through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he eyes of French, British and German soldie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Excerpt from the film: 01:32 &gt; 02:40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first scene of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he film where students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from three countries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re reciting phrases about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how brilliant their country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is compared to others.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9600" y="372960"/>
            <a:ext cx="6814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60c1c"/>
                </a:solidFill>
                <a:latin typeface="Geneva"/>
              </a:rPr>
              <a:t>Joyeux Noël</a:t>
            </a:r>
            <a:endParaRPr b="0" lang="en-US" sz="3600" spc="-1" strike="noStrike">
              <a:solidFill>
                <a:srgbClr val="a60c1c"/>
              </a:solidFill>
              <a:latin typeface="Genev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0320" y="1271160"/>
            <a:ext cx="771840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Talk about what you already know about th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irst World War, and compare it to today’s war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atch the first time without sound or subtitles. 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historical period is it? How do we know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How can we tell what nationality the boys are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In your opinion, what are each saying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Do they express their own ideas?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-watch with sound and subtitles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Review the questions above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What do they say? Write down a sentence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eneva"/>
              </a:rPr>
              <a:t>for each boy, that, to you, sums their speech up.</a:t>
            </a: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2:55:07Z</dcterms:created>
  <dc:creator>Ben Planson</dc:creator>
  <dc:description/>
  <dc:language>en-US</dc:language>
  <cp:lastModifiedBy>Ben Planson</cp:lastModifiedBy>
  <dcterms:modified xsi:type="dcterms:W3CDTF">2012-04-15T23:16:53Z</dcterms:modified>
  <cp:revision>22</cp:revision>
  <dc:subject/>
  <dc:title>PowerPoint Presentation</dc:title>
</cp:coreProperties>
</file>