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606-01B0-4D2C-B710-F986D682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7826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0320" y="3789360"/>
            <a:ext cx="7826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F6D-09AA-4240-A9C7-5757BFCB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0320" y="3789360"/>
            <a:ext cx="38192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1080" y="3789360"/>
            <a:ext cx="38192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894-8F00-41BE-9A9F-8B7AA662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2520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6680" y="1268280"/>
            <a:ext cx="2520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3040" y="1268280"/>
            <a:ext cx="2520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0320" y="3789360"/>
            <a:ext cx="2520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6680" y="3789360"/>
            <a:ext cx="2520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3040" y="3789360"/>
            <a:ext cx="2520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57C-DDC5-4F53-B77C-90507021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0320" y="1268280"/>
            <a:ext cx="78264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FA1-7F80-46FA-9218-75ECC16F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7826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B16-E919-4C96-9C68-FCBFFAB3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9B7-D11B-4947-8CE0-C4AE6C3C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F2E-06F6-401C-ADA1-5A6A7DDE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49600" y="372960"/>
            <a:ext cx="681480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385-9AFD-411A-B13F-2FBC10E5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0320" y="3789360"/>
            <a:ext cx="38192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72D-C582-44B2-9FA8-5CBB0067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1080" y="3789360"/>
            <a:ext cx="38192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314-938F-4E63-9EAD-9537B4B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0320" y="3789360"/>
            <a:ext cx="7826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B55-0079-42A3-8B82-26F7B9E2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TF_PPT_Background_100dpi.png"/>
          <p:cNvPicPr/>
          <p:nvPr/>
        </p:nvPicPr>
        <p:blipFill>
          <a:blip r:embed="rId2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FilmEdLogo.png"/>
          <p:cNvPicPr/>
          <p:nvPr/>
        </p:nvPicPr>
        <p:blipFill>
          <a:blip r:embed="rId3"/>
          <a:stretch/>
        </p:blipFill>
        <p:spPr>
          <a:xfrm>
            <a:off x="6927840" y="6383160"/>
            <a:ext cx="1658880" cy="273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FDALogo.png"/>
          <p:cNvPicPr/>
          <p:nvPr/>
        </p:nvPicPr>
        <p:blipFill>
          <a:blip r:embed="rId4"/>
          <a:stretch/>
        </p:blipFill>
        <p:spPr>
          <a:xfrm>
            <a:off x="2828880" y="6264360"/>
            <a:ext cx="1554120" cy="511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2" descr="LGTLogo.png"/>
          <p:cNvPicPr/>
          <p:nvPr/>
        </p:nvPicPr>
        <p:blipFill>
          <a:blip r:embed="rId5"/>
          <a:stretch/>
        </p:blipFill>
        <p:spPr>
          <a:xfrm>
            <a:off x="4911840" y="6343560"/>
            <a:ext cx="1554120" cy="3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lick to edit the title text format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0320" y="1268280"/>
            <a:ext cx="7826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0AA73-597C-4851-BF8A-523FF626E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F_PPT_FrontPage_100dpi_Option2.png"/>
          <p:cNvPicPr/>
          <p:nvPr/>
        </p:nvPicPr>
        <p:blipFill>
          <a:blip r:embed="rId1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5600" y="2865240"/>
            <a:ext cx="5024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a60c1c"/>
                </a:solidFill>
                <a:latin typeface="Geneva"/>
              </a:rPr>
              <a:t>MFL DVD Resource</a:t>
            </a:r>
            <a:endParaRPr b="0" lang="en-US" sz="40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689040" y="3505320"/>
            <a:ext cx="486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56a"/>
                </a:solidFill>
                <a:latin typeface="Geneva"/>
                <a:ea typeface="Geneva"/>
              </a:rPr>
              <a:t>TOPIC: EDUCATION/SCH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0040" y="1273320"/>
            <a:ext cx="771840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cribe what you see in the classroom. Is it differen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r similar to your own school? How would you fe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f you were in this clas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believe he is a good teacher? Why/why no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think his students feel about him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makes you believe thi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agree with François, that you need to understand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omething before you can fully criticise it? Is it harder to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learn something if you cannot relate to it? How far do you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nk language itself highlights and causes social conflic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mage_4b.png"/>
          <p:cNvPicPr/>
          <p:nvPr/>
        </p:nvPicPr>
        <p:blipFill>
          <a:blip r:embed="rId1"/>
          <a:stretch/>
        </p:blipFill>
        <p:spPr>
          <a:xfrm>
            <a:off x="3038400" y="3351240"/>
            <a:ext cx="5370480" cy="2554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s Choriste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70040" y="1273320"/>
            <a:ext cx="77184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t in a correctional house for ‘wayward boys’, the film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harts the progress of new music teacher Clement Mathieu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his attempts to instil a little love and hope into hi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hallenging students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6:45 &gt; 09:44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 teacher is injured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by a prank and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 school assembly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s called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s Choriste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0320" y="1273320"/>
            <a:ext cx="77184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is scene we are introduced to the protagonist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new teacher – how does he appear to differ from th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ther teachers and the headteacher? Do you think he will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ommand respect from his colleagues and the students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it’s fair that the children are punished at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andom and collectively, encouraging someone to ‘snitch’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n the culprit? Justify your answe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s Choriste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0320" y="1273320"/>
            <a:ext cx="77184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r a selection of characters, write a sentence describing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ir personality using superlatives, i.e. le plus, le moins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esearch the slightly different construction of th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uperlative for saying “the worst” and “the best”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write a sentence using them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Now using modal verbs (vouloir / devoir / pouvoir),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dentify how those characters want to / should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r could develop their personality to be bett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ehaved and more pleasant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Image_5b.png"/>
          <p:cNvPicPr/>
          <p:nvPr/>
        </p:nvPicPr>
        <p:blipFill>
          <a:blip r:embed="rId1"/>
          <a:stretch/>
        </p:blipFill>
        <p:spPr>
          <a:xfrm>
            <a:off x="1185840" y="2349360"/>
            <a:ext cx="6772320" cy="32180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s Choriste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0320" y="1273320"/>
            <a:ext cx="77184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11:51 &gt; 13:12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new supervisor enters his classroom for the first time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s Choriste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0320" y="1273320"/>
            <a:ext cx="771840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ith a partner, pick a character from this extrac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o interests you, and prepare ten creative question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r partner then prepares a series of answers to th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questions; some answers will be based on the film but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y can be as imaginative as you like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erform or video your interview with the rest of the clas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es Choriste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0320" y="1272960"/>
            <a:ext cx="77184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Now try “hot-seating”. One member of the class goe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the front and plays the role of a character who's nam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s randomly picked out of a hat. They must answer o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spot and in character the questions from the res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the clas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happens next? Choosing another character, use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xpressions of opinion such as ‘je pense que’, ‘a mon avis’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tc. and if possible the future tense to write a paragraph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n what you think will happen to the character next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(Future tense can be immediate or simple)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Image_1b.png"/>
          <p:cNvPicPr/>
          <p:nvPr/>
        </p:nvPicPr>
        <p:blipFill>
          <a:blip r:embed="rId1"/>
          <a:stretch/>
        </p:blipFill>
        <p:spPr>
          <a:xfrm>
            <a:off x="3273480" y="2808360"/>
            <a:ext cx="5059440" cy="311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u Revoir Les Enfant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0320" y="126828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u Revoir Les Enfants is Louis Malle’s film about life in a French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oarding school during WWII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4:42 &gt; 07:00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Jean, a new boy,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s introduced to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other boys in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school dormitory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u Revoir Les Enfant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70040" y="126828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a short description of the scene on the screen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words would you use to describe the friendship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etween the boy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ork out what rules you think might be importan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this school. What makes you think tha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iscuss what are the biggest differences betwee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oarding and day schools and what are the mai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rguments for and agains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Au Revoir Les Enfant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0320" y="1270080"/>
            <a:ext cx="771840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 new student arrives in your school. Describe your firs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mpressions of them. Write a brochure for the new arriva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ith advice on how to fit in at your school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think of the school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adjectives would you use to describe i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think about how the boys react toward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ne another and what does this reveal abou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school environmen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wo groups come up with reasons for and agains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eligious schools. Discuss whether religious school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hould be allowed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Image_2b.png"/>
          <p:cNvPicPr/>
          <p:nvPr/>
        </p:nvPicPr>
        <p:blipFill>
          <a:blip r:embed="rId1"/>
          <a:stretch/>
        </p:blipFill>
        <p:spPr>
          <a:xfrm>
            <a:off x="2695680" y="3511440"/>
            <a:ext cx="5716440" cy="2444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70040" y="126828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s is a semi-autobiographical account of a teacher,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rançois Marin’s, experiences as a French languag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literature teacher in a middle school in the 20th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rrondissement of Pari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4:08 &gt; 04:23,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eachers look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down a list 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of the class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0320" y="126828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 teacher looks down his class lists with another memb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staff who simply describes the pupils as either nic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r not nice. This is from a teacher’s point of view rath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an a student’s. What questions does this provok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egarding the way students can be seen by teacher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students form accurate assumption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bout teachers’ character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personality traits do you like in your teacher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trict? Respectful? Fair? Funn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traits would you like them to hav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must they hav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0320" y="1268280"/>
            <a:ext cx="7718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hoose three of your teache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would they describe you based on wh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y know of you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elements of your character might they overlook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re there certain parts of your personality that you do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not reveal, purposefully or otherwis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y do you do tha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age_3b.png"/>
          <p:cNvPicPr/>
          <p:nvPr/>
        </p:nvPicPr>
        <p:blipFill>
          <a:blip r:embed="rId1"/>
          <a:stretch/>
        </p:blipFill>
        <p:spPr>
          <a:xfrm>
            <a:off x="1231920" y="2468520"/>
            <a:ext cx="6656400" cy="28400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0320" y="1272960"/>
            <a:ext cx="7718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17:25 &gt; 19:52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 teacher tries to teach the class the imperfect subjunctive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Entre Les Mur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0320" y="1270080"/>
            <a:ext cx="77184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rançois explains a grammatical tense to the clas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y debate the importance of learning something th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nly “snobs” use, and that knowing this tense does no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pply to them in every day life. To what extent do you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nk that what you learn in school should reflect wh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you do in every day life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aving watched this clip, why do you think they seem to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ccuse their teacher of being posh? Do you agre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the teacher is right that there might b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 advantage to knowing about this kind of languag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might that be? If not, why no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1:01:57Z</dcterms:created>
  <dc:creator>Ben Planson</dc:creator>
  <dc:description/>
  <dc:language>en-US</dc:language>
  <cp:lastModifiedBy>Ben Planson</cp:lastModifiedBy>
  <dcterms:modified xsi:type="dcterms:W3CDTF">2012-04-15T23:11:49Z</dcterms:modified>
  <cp:revision>23</cp:revision>
  <dc:subject/>
  <dc:title>PowerPoint Presentation</dc:title>
</cp:coreProperties>
</file>