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6DE-7295-4162-A7BC-CC58B048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0320" y="1262160"/>
            <a:ext cx="7826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0320" y="3784680"/>
            <a:ext cx="7826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915-8C14-403A-98EC-F54AC0F0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0320" y="1262160"/>
            <a:ext cx="38192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1080" y="1262160"/>
            <a:ext cx="38192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0320" y="3784680"/>
            <a:ext cx="38192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1080" y="3784680"/>
            <a:ext cx="38192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2C6-FA6B-4978-8DFE-571AFB1B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0320" y="1262160"/>
            <a:ext cx="25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6680" y="1262160"/>
            <a:ext cx="25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3040" y="1262160"/>
            <a:ext cx="25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0320" y="3784680"/>
            <a:ext cx="25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6680" y="3784680"/>
            <a:ext cx="25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3040" y="3784680"/>
            <a:ext cx="25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ED1-018C-4F91-8F11-F6B16B7B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0320" y="1262160"/>
            <a:ext cx="78264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8C0-D525-42D1-8878-8050EEE6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262160"/>
            <a:ext cx="7826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6F3-4E3A-4666-AEC2-C9981ADA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0320" y="1262160"/>
            <a:ext cx="381924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1080" y="1262160"/>
            <a:ext cx="381924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5FE-3522-41F0-A152-297F5B31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DA5-F222-4DA3-887A-2CF595E5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49600" y="372960"/>
            <a:ext cx="681480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6B0-C0A8-4B37-A0E2-070F20D0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0320" y="1262160"/>
            <a:ext cx="38192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1080" y="1262160"/>
            <a:ext cx="381924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0320" y="3784680"/>
            <a:ext cx="38192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B55-42F2-4A76-86D9-E07E51D1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0320" y="1262160"/>
            <a:ext cx="381924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1080" y="1262160"/>
            <a:ext cx="38192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1080" y="3784680"/>
            <a:ext cx="38192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09C-66A4-441C-B945-51B21F51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0320" y="1262160"/>
            <a:ext cx="38192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1080" y="1262160"/>
            <a:ext cx="38192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0320" y="3784680"/>
            <a:ext cx="7826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E17-FE32-4239-ACAA-86590FC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TF_PPT_Background_100dpi.png"/>
          <p:cNvPicPr/>
          <p:nvPr/>
        </p:nvPicPr>
        <p:blipFill>
          <a:blip r:embed="rId2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FilmEdLogo.png"/>
          <p:cNvPicPr/>
          <p:nvPr/>
        </p:nvPicPr>
        <p:blipFill>
          <a:blip r:embed="rId3"/>
          <a:stretch/>
        </p:blipFill>
        <p:spPr>
          <a:xfrm>
            <a:off x="6927840" y="6383160"/>
            <a:ext cx="1658880" cy="273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FDALogo.png"/>
          <p:cNvPicPr/>
          <p:nvPr/>
        </p:nvPicPr>
        <p:blipFill>
          <a:blip r:embed="rId4"/>
          <a:stretch/>
        </p:blipFill>
        <p:spPr>
          <a:xfrm>
            <a:off x="2828880" y="6264360"/>
            <a:ext cx="1554120" cy="511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2" descr="LGTLogo.png"/>
          <p:cNvPicPr/>
          <p:nvPr/>
        </p:nvPicPr>
        <p:blipFill>
          <a:blip r:embed="rId5"/>
          <a:stretch/>
        </p:blipFill>
        <p:spPr>
          <a:xfrm>
            <a:off x="4911840" y="6343560"/>
            <a:ext cx="1554120" cy="3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lick to edit the title text format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0320" y="1262160"/>
            <a:ext cx="7826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B0CCF-AF3E-4148-8373-839942D01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TF_PPT_FrontPage_100dpi_Option2.png"/>
          <p:cNvPicPr/>
          <p:nvPr/>
        </p:nvPicPr>
        <p:blipFill>
          <a:blip r:embed="rId1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5600" y="2865240"/>
            <a:ext cx="5024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a60c1c"/>
                </a:solidFill>
                <a:latin typeface="Geneva"/>
              </a:rPr>
              <a:t>MFL DVD Resource</a:t>
            </a:r>
            <a:endParaRPr b="0" lang="en-US" sz="40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649440" y="3505320"/>
            <a:ext cx="48592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56a"/>
                </a:solidFill>
                <a:latin typeface="Geneva"/>
                <a:ea typeface="Geneva"/>
              </a:rPr>
              <a:t>TOPIC: FAMILY/H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0040" y="1261800"/>
            <a:ext cx="7718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down as many nouns and adjectives as possible to describ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flat and how it is furnished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many members of the family do you see? Who are the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they seem to get on with one another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 have just returned from a week staying with Vinz’s sist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is flat. Write a report for your school magazine about your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xperiences, what you liked and what you disliked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70040" y="1262160"/>
            <a:ext cx="77184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Vinz is in his home. Describe his apartment. What do you notic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bout the atmosphere and how they talk to each other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s the role of the grandmother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ompare the differences/similarities to your home lif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are the most significant one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y do you think Vinz behaves like he does in fron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the bathroom mirror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Image_4c.png"/>
          <p:cNvPicPr/>
          <p:nvPr/>
        </p:nvPicPr>
        <p:blipFill>
          <a:blip r:embed="rId1"/>
          <a:stretch/>
        </p:blipFill>
        <p:spPr>
          <a:xfrm>
            <a:off x="3059280" y="2989440"/>
            <a:ext cx="5284800" cy="2889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 Fils de l’Epicier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70040" y="1262160"/>
            <a:ext cx="77184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is the story of the grocer’s son, who reluctantly returns from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city to take his position as the head of his estranged family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a rural village, as his father has had a strok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1:36 &gt; 03:03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Home life, family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&amp; relationships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 Fils de l’Epicier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70040" y="1262160"/>
            <a:ext cx="77184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many members of the family (tante, grand-père, mari etc)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an you name in 30 seconds – compete with partne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rst 20 seconds of the clip: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ere is the scene taking place? How are these peopl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volved? Explain your idea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 Fils de l’Epicier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0040" y="1262160"/>
            <a:ext cx="77184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est of clip: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rainstorm adjectives to describe each charact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their emotion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ecount the scene from the point of view of one of the main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haracters. Try to include an element of analysis, such as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peculating about why you think they may be feeling wh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y feel, based on their reactions to each other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Image_5c.png"/>
          <p:cNvPicPr/>
          <p:nvPr/>
        </p:nvPicPr>
        <p:blipFill>
          <a:blip r:embed="rId1"/>
          <a:stretch/>
        </p:blipFill>
        <p:spPr>
          <a:xfrm>
            <a:off x="3070080" y="3003480"/>
            <a:ext cx="5205600" cy="2852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 Fils de l’Epicier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70040" y="1262160"/>
            <a:ext cx="77184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is the story of the grocer’s son, who reluctantly returns from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city to take his position as the head of his estranged family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a rural village, as his father has had a strok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3:03 &gt; 04:03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ntoine’s family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 Fils de l’Epicier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70040" y="1262160"/>
            <a:ext cx="77184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lay ‘Bingo’ with household items –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rainstorm a list and see how many are shown in the clip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atch carefully to see the state of Antoine’s flat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rder these various problems in the right order: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4572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l utilise sa chemise comme torchon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ntoine n’a pas fait la lessive donc il y a des vêtements sales par terre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l y a des boîtes en carton partout dans l’appartement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La poignée de la porte d’entrée est cassée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L’évier est plein de casseroles (etc), car il n’a pas fait la vaisselle non plus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l n’a plus de café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l n’y a pas de chaise pour sa mère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 Fils de l’Epicier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70040" y="1251000"/>
            <a:ext cx="78264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y do you think he offers and then insists on a drink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his mother, before admitting he has no coffe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ecount the visit to the flat from the point of view of his mum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a friend. EITHER be honest and negative OR lie and pretend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t was luxurious / hospitable etc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Image_1c.png"/>
          <p:cNvPicPr/>
          <p:nvPr/>
        </p:nvPicPr>
        <p:blipFill>
          <a:blip r:embed="rId1"/>
          <a:stretch/>
        </p:blipFill>
        <p:spPr>
          <a:xfrm>
            <a:off x="1467000" y="3322800"/>
            <a:ext cx="6095880" cy="2601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0040" y="126360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is a semi-autobiographical account of François Marin’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xperiences as a French language and literature teach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a middle school in the 20th arrondissement of Pari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Excerpt from the film: 01:03:55 &gt; 01:05:35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Rabah talks about being looked down on at a party because he is an Arab.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70040" y="126360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class is uncomfortable about writing about their home live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r an assignment and try to explain why. Rabah talks abou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eing looked down on at a party because he is an Arab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the pupils are more ashamed or proud of thei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ackgrounds? Do you think that Rabah feels worse tha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e is letting on about his experience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that your home life and the custom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your background should be kept separate from school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70040" y="1257120"/>
            <a:ext cx="7718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types of topics do you find difficult to talk abou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what ways is the difficulty influenced by who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 are talking to/in front of? Why is this the cas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y do you think the teacher might find this conversatio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ifficult to understand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different is he from his learner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what extent do you feel that this is a good or bad thing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Image_2c.png"/>
          <p:cNvPicPr/>
          <p:nvPr/>
        </p:nvPicPr>
        <p:blipFill>
          <a:blip r:embed="rId1"/>
          <a:stretch/>
        </p:blipFill>
        <p:spPr>
          <a:xfrm>
            <a:off x="1095480" y="2959200"/>
            <a:ext cx="6949800" cy="2955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ean de Florett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70040" y="126360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ean de Florette is a 1986 French historical drama directed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y Claude Berri, based on a novel by Marcel Pagnol. 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Excerpt from the film: 32:40 &gt; 35:05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The Cadoret family move in.</a:t>
            </a:r>
            <a:endParaRPr b="0" lang="en-US" sz="14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ean de Florett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70040" y="126360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are the Cadorets dressed? What are they doing in the hous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ean - ’The Hunchback' wants to live in the countryside. Wh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es he hope to do in this new rural lif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ean uses a word that Ugolin doesn’t understand: which on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s the meaning of this word and why is it importan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ean de Florett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0040" y="126360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ean ‘the Hunchback’ speaks of his plans and dreams, but Ugolin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makes a negative comment every time. By working in pairs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arry on the conversation: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 : je vais cultiver le jardi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U : mais il n’y a pas d’eau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 : nous avons une citern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U : mais elle est très petit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ontinue and present your dialogu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ean de Florett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70040" y="1261800"/>
            <a:ext cx="7718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r parents dream of living in the countryside in southern Franc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1018440" indent="-2829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arch the Internet for property ads: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1018440" indent="-282960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http://www.pcprovence.com/immobilier-domaines-en-provence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1018440" indent="-2829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lect a property you like and translate the descriptio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1018440" indent="-282960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to English. If you don’t have internet, translate th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1018440" indent="-28296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d below: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vignon - Bastide de Vignoble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1018440" indent="-28296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1018440" indent="-28296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 2 minutes d'un joli village, entre les Dentelles de Montmirail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1018440" indent="-28296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t le mont Ventoux, bastide de vignoble remarquablement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1018440" indent="-28296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restaurée et décorée sur un domaine de 8 ha dont 5 de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1018440" indent="-28296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vignes. Habitation de 350m², maison de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gardien de 90m²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1018440" indent="-282960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t dépendances aménageables de 140m². 1.800.000 €,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Image_3c.png"/>
          <p:cNvPicPr/>
          <p:nvPr/>
        </p:nvPicPr>
        <p:blipFill>
          <a:blip r:embed="rId1"/>
          <a:stretch/>
        </p:blipFill>
        <p:spPr>
          <a:xfrm>
            <a:off x="3233880" y="2725560"/>
            <a:ext cx="4949640" cy="27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70040" y="1263600"/>
            <a:ext cx="77184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La Haine is a 1995 French black-and-white film written, co-edited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directed by Mathieu Kassovitz. It is about three teenag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riends and their struggle to live in the banlieues (outskirts)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Paris during a time of riot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07:27 &gt; 12:20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Vinz, Saïd and Hubert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2:55:08Z</dcterms:created>
  <dc:creator>Ben Planson</dc:creator>
  <dc:description/>
  <dc:language>en-US</dc:language>
  <cp:lastModifiedBy>Ben Planson</cp:lastModifiedBy>
  <dcterms:modified xsi:type="dcterms:W3CDTF">2012-04-15T23:13:48Z</dcterms:modified>
  <cp:revision>29</cp:revision>
  <dc:subject/>
  <dc:title>PowerPoint Presentation</dc:title>
</cp:coreProperties>
</file>