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0CA-34D4-470B-B409-324B29D1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0320" y="1279440"/>
            <a:ext cx="7804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0320" y="3748320"/>
            <a:ext cx="7804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7E2-C948-4347-BA21-231A0C7E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0320" y="127944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9200" y="127944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0320" y="374832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9200" y="374832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237-BA94-4189-AC94-AF0A0352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0320" y="1279440"/>
            <a:ext cx="2512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9120" y="1279440"/>
            <a:ext cx="2512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7920" y="1279440"/>
            <a:ext cx="2512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0320" y="3748320"/>
            <a:ext cx="2512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9120" y="3748320"/>
            <a:ext cx="2512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7920" y="3748320"/>
            <a:ext cx="2512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B49-DC48-4DC4-A4E9-82B91FC6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0320" y="1279440"/>
            <a:ext cx="780408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FB2-9B5F-4CFB-BB83-56898319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0320" y="1279440"/>
            <a:ext cx="78040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2BD-D72D-41C3-A002-EFE7352F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0320" y="1279440"/>
            <a:ext cx="38080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9200" y="1279440"/>
            <a:ext cx="38080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44D-E10D-41F6-A81E-F86F5F09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7AB-57E5-4396-8434-3B2FC35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49600" y="372960"/>
            <a:ext cx="681480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F7C-4839-4772-B89D-537047AE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0320" y="127944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79440"/>
            <a:ext cx="38080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0320" y="374832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C87-3F74-4BCB-9D24-B7B68FC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0320" y="1279440"/>
            <a:ext cx="38080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7944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9200" y="374832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B61-E85F-4B45-963D-4D4E5CDD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0320" y="127944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9200" y="1279440"/>
            <a:ext cx="3808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0320" y="3748320"/>
            <a:ext cx="780408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FB9-6599-4AE1-8404-8AA81A7C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TF_PPT_Background_100dpi.png"/>
          <p:cNvPicPr/>
          <p:nvPr/>
        </p:nvPicPr>
        <p:blipFill>
          <a:blip r:embed="rId2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lick to edit the title text format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0320" y="1279440"/>
            <a:ext cx="78040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CE569-2B78-4449-9074-16E08A5BF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FilmEdLogo.png"/>
          <p:cNvPicPr/>
          <p:nvPr/>
        </p:nvPicPr>
        <p:blipFill>
          <a:blip r:embed="rId3"/>
          <a:stretch/>
        </p:blipFill>
        <p:spPr>
          <a:xfrm>
            <a:off x="6927840" y="6280200"/>
            <a:ext cx="165888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FDALogo.png"/>
          <p:cNvPicPr/>
          <p:nvPr/>
        </p:nvPicPr>
        <p:blipFill>
          <a:blip r:embed="rId4"/>
          <a:stretch/>
        </p:blipFill>
        <p:spPr>
          <a:xfrm>
            <a:off x="5173560" y="6264360"/>
            <a:ext cx="15541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TF_PPT_FrontPage_100dpi_Option2.png"/>
          <p:cNvPicPr/>
          <p:nvPr/>
        </p:nvPicPr>
        <p:blipFill>
          <a:blip r:embed="rId1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865240"/>
            <a:ext cx="5024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a60c1c"/>
                </a:solidFill>
                <a:latin typeface="Geneva"/>
              </a:rPr>
              <a:t>MFL DVD Resource</a:t>
            </a:r>
            <a:endParaRPr b="0" lang="en-US" sz="40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638280" y="3505320"/>
            <a:ext cx="486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56a"/>
                </a:solidFill>
                <a:latin typeface="Geneva"/>
                <a:ea typeface="Geneva"/>
              </a:rPr>
              <a:t>TOPIC: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ouscou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0320" y="1271520"/>
            <a:ext cx="7804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atch up the character with their role in the family (e.g. mother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ister, etc) and their ag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ake a list of all the ingredients that go into a typical family meal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 have at home. Alternatively, list those that go into your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avourite meal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Use either the meal you watched in the clip or one you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magined and describe what it was like to taste each course/dish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ay particular attention to using the correct vocabulary fo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meals you describe and using a range of creative adjective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describe them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Image_4d.png"/>
          <p:cNvPicPr/>
          <p:nvPr/>
        </p:nvPicPr>
        <p:blipFill>
          <a:blip r:embed="rId1"/>
          <a:stretch/>
        </p:blipFill>
        <p:spPr>
          <a:xfrm>
            <a:off x="3160800" y="2911320"/>
            <a:ext cx="5138640" cy="2901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0320" y="1271520"/>
            <a:ext cx="7718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oyeux Noël is a film about the World War I Christmas truc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December 1914, depicted through the eyes of French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ritish and German soldi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Excerpt from the film: 39:50 &gt; 41:56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It’s Christmas eve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and the three different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trenches are preparing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their ‘feast’ as they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would at home.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60320" y="1271160"/>
            <a:ext cx="771840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7200" indent="-277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French: what do they do? What do they ea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they drink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Scottish: what do they do? What do they ea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they drink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Germans: what do they do? What do they ea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they drink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symbolic objects of the three cultures do you se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your opinion, which troops have the most fun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e see signs that say 'Froggyland’ and 'Rosbif land’: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77200" indent="-2772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an you explain what these might mean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0320" y="1271160"/>
            <a:ext cx="7718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What was there on the menu? Rewrite the menus of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the three festive meals using the products (food and drinks)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of each nation: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Repas de Noël allemand: du boudin, des saucisses,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des choucroutes ……. (you continue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The Scottish soldiers sing "I'm dreaming of home." In pairs, writ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the lyrics of a similar song for the French. Begin: “Je rêve de la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Verdana"/>
              </a:rPr>
              <a:t>maison…” If you learn German, try writing a German version, too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age_5d.png"/>
          <p:cNvPicPr/>
          <p:nvPr/>
        </p:nvPicPr>
        <p:blipFill>
          <a:blip r:embed="rId1"/>
          <a:stretch/>
        </p:blipFill>
        <p:spPr>
          <a:xfrm>
            <a:off x="3581280" y="3282840"/>
            <a:ext cx="471816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 Fils de l’Epicier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0320" y="1271520"/>
            <a:ext cx="77184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is the story of the grocer’s son, Antoine Sforza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o reluctantly returns from the city to take his positio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s the head of his estranged family in a rural village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s his father has had a strok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Excerpt from the film: 21:08 &gt; 23:13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Food shopping from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the grocer’s van.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 Fils de l’Epicier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0320" y="1271520"/>
            <a:ext cx="77184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atch without subtitles first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List the foods mentioned in French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ry to list a piece of French food and/or drink vocabulary fo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ach letter of the alphabet (or for each colour of the rainbow)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 Fils de l’Epicier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0320" y="1271160"/>
            <a:ext cx="77184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es anything from this scene surprise you as a shopping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xperience? How would you feel about this type of food  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hopping? What are the pros and con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ere do you and your family buy food from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re the benefits of supermarkets / markets / local shop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Image_1d.png"/>
          <p:cNvPicPr/>
          <p:nvPr/>
        </p:nvPicPr>
        <p:blipFill>
          <a:blip r:embed="rId1"/>
          <a:stretch/>
        </p:blipFill>
        <p:spPr>
          <a:xfrm>
            <a:off x="1622520" y="3357720"/>
            <a:ext cx="5906880" cy="251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i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0320" y="12700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comedy about a postmaster who is transferred from the South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France to the North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26:00 &gt; 28:57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Philippe wakes up in Antoine’s house after his first night up north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He goes down to the kitchen to enjoy a traditional northern breakfast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i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0320" y="12700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t is fairly clear that the breakfast is not to Philippe’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aste, and the conflict that arises with the moth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s not just about food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else might be going on? How is this suggested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is scene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760320" y="1278000"/>
            <a:ext cx="7718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Think of the worst breakfast you’ve ever had or the wor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breakfast you can think of. Use as many adjectives, intensif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and comparisons as you want to describe the experi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Prepare a Powerpoint presentation for homework demonstra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your worst breakfast experience (this could include pho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  <a:ea typeface="Geneva"/>
              </a:rPr>
              <a:t>of the actual foo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i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Image_2d.png"/>
          <p:cNvPicPr/>
          <p:nvPr/>
        </p:nvPicPr>
        <p:blipFill>
          <a:blip r:embed="rId1"/>
          <a:stretch/>
        </p:blipFill>
        <p:spPr>
          <a:xfrm>
            <a:off x="1057320" y="2436840"/>
            <a:ext cx="7076880" cy="3009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i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0320" y="12826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18:59 &gt; 01:21:46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Julie and Philippe eat dinner with his colleagues after her arrival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i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0320" y="1214280"/>
            <a:ext cx="7718400" cy="5268960"/>
          </a:xfrm>
          <a:prstGeom prst="rect">
            <a:avLst/>
          </a:prstGeom>
          <a:noFill/>
          <a:ln w="0">
            <a:noFill/>
          </a:ln>
        </p:spPr>
        <p:txBody>
          <a:bodyPr lIns="108000"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hoose one of the characters and describe their physical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ppearance (write a paragraph describing  hair, eyes, height….)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l/Elle aime porter (describe what clothes he/ she likes wearing)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ersonnalité (describe his/her personality). Il/elle est: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rrationnel(le)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équilibré(e)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perspicace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   tendre serein(e)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hypersensible 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ourmenté(e)  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hésitant(e)  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   timide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fragile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ntuitif(ve)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réservé(e)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   résolu(e)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ngénieux(se)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sentimental(e) 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passionné(e)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   audacieux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méticuleux(se)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souriant(e)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responsable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   enthousiaste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déprimé(e)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etits Plaisirs: …aime (write two things that this charact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ight like doing)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i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0320" y="12700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what you’re meant to think might be on the menu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alk about how you felt about the dining experience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magining you are Julie talking to a friend in the South of Franc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nk about your description in terms of appearance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mell and tast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Image_3d.png"/>
          <p:cNvPicPr/>
          <p:nvPr/>
        </p:nvPicPr>
        <p:blipFill>
          <a:blip r:embed="rId1"/>
          <a:stretch/>
        </p:blipFill>
        <p:spPr>
          <a:xfrm>
            <a:off x="1736640" y="2889360"/>
            <a:ext cx="5602320" cy="3030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ouscou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0320" y="1271520"/>
            <a:ext cx="77184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film is set amongst the North African community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e Mediterranean port of Sète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Excerpt from the film: 36:04 &gt; 36:35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The family are at dinner.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ouscou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0320" y="1278000"/>
            <a:ext cx="77184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od plays an important role in bringing the family togeth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is scene and gives us an insight into their cultur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es it resonate with you? What does it make you think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the family eating/drinking in the clip? Do you eat any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this sort of food at home? Is there any food from the clip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 would (not) like to try? Why (not)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eat/drink for a family meal at hom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1:24:03Z</dcterms:created>
  <dc:creator>Ben Planson</dc:creator>
  <dc:description/>
  <dc:language>en-US</dc:language>
  <cp:lastModifiedBy>Ben Planson</cp:lastModifiedBy>
  <dcterms:modified xsi:type="dcterms:W3CDTF">2012-04-15T23:16:16Z</dcterms:modified>
  <cp:revision>30</cp:revision>
  <dc:subject/>
  <dc:title>PowerPoint Presentation</dc:title>
</cp:coreProperties>
</file>