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E2E-DB8A-49E8-A9F6-BF3CE3C2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80592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2F2-C7EC-4F07-97B0-778AFCAC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108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D37-0F2B-4E85-B508-A7DCB8B5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668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304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668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304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EF7-C393-48EF-A314-A7F53F21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A4E-AFA2-405A-8622-7A062CB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BC6-5AF4-4468-B9B8-4AB05E0A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DB2-738B-47ED-898E-FDED13F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AB7-934F-4C34-91AE-E3D1E4A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9F1-69E7-45B2-93B6-532B8AD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FF5-4760-4607-9743-A1EAF4D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108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8A5-DC6A-4E42-95FF-CB2C7C5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10A-D13A-4268-95A1-D761E84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E34CF-ACC6-48E6-96FE-41A5E9150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252440" y="3505320"/>
            <a:ext cx="361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LEI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oyeux Noël is a film about the unofficial World War I Christma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ruce of December 1914, depicted through the eyes of French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ritish and German soldi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5:47 &gt; 01:17:57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soldiers relax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0" name="Picture 5" descr="Image_6d.png"/>
          <p:cNvPicPr/>
          <p:nvPr/>
        </p:nvPicPr>
        <p:blipFill>
          <a:blip r:embed="rId1"/>
          <a:stretch/>
        </p:blipFill>
        <p:spPr>
          <a:xfrm>
            <a:off x="2938320" y="2884320"/>
            <a:ext cx="5486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0320" y="1271160"/>
            <a:ext cx="7718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recreational activities of the soldier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 they amuse themselve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comforts and pleasures that they hav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common? What will they do tomorrow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groups of three, one British, one French and one German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are playing cards. You still have an hour before the en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cease-fire. Imagine the conversation in which everyon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resses his impressions of this special day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ll you also speak of your future plan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0320" y="1271520"/>
            <a:ext cx="77184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 google.fr, search for ‘cease-fire Christmas 1914’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fter watching some videos, discuss in class this time in history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e you are one of the youngest French soldi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fore you go to bed in the dugout at the end of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Christmas day, you write a letter to your paren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ell them? You must include at least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) what you did last night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b) what happened toda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c) what you will do tomorrow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d) what your feelings are at this tim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0320" y="1271160"/>
            <a:ext cx="7718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a Haine is a French black-and-white film written, co-edited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directed by Mathieu Kassovitz. It is about three teenag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iends and their struggle to live in the banlieues of Par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9:04 &gt; 12:2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boys go to the gym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7" name="Picture 5" descr="Image_6e.png"/>
          <p:cNvPicPr/>
          <p:nvPr/>
        </p:nvPicPr>
        <p:blipFill>
          <a:blip r:embed="rId1"/>
          <a:stretch/>
        </p:blipFill>
        <p:spPr>
          <a:xfrm>
            <a:off x="2305080" y="3352680"/>
            <a:ext cx="453384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is scene we meet the three main protagonists together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appears that the community has burnt down thei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in source of leisure activity in the rio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es this say about how they must have felt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ey did i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will happen now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down at least two adjectives to describe eac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three characters as they appear in this scen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main features of the area in which they liv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the daily routine of the three characters present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ere OR compare and contrast your local area with the area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ortrayed in this clip OR imagine that you have just bee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lected Mayor of this borough: describe the chang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plan to make and why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_1.png"/>
          <p:cNvPicPr/>
          <p:nvPr/>
        </p:nvPicPr>
        <p:blipFill>
          <a:blip r:embed="rId1"/>
          <a:stretch/>
        </p:blipFill>
        <p:spPr>
          <a:xfrm>
            <a:off x="1254240" y="3005280"/>
            <a:ext cx="6649920" cy="283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-Pierre Jeunet’s ‘fantasy-realist’ film follow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woman, who discovers her true vocation in lif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11:11 &gt; 11:38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melie is in the cinema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51" name="Picture 5" descr="Image_6a.png"/>
          <p:cNvPicPr/>
          <p:nvPr/>
        </p:nvPicPr>
        <p:blipFill>
          <a:blip r:embed="rId2"/>
          <a:stretch/>
        </p:blipFill>
        <p:spPr>
          <a:xfrm>
            <a:off x="1085760" y="3005280"/>
            <a:ext cx="6972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scuss what the advantages are of watching fil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at the cinema, as opposed to at hom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Amelie enjoys watching the people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t the cinema? Why do you think she is fascinat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by people’s reaction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o is telling this story? Who is watching whom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review of the last film you watched in three regist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rstly as an email to a friend. Then as an in-school newslett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finally as an article for a newspaper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meli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technical device does the director use in this clip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oes this affect the viewer? Have you seen th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echnique used anywhere else in film or on TV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which ways do directors try to manipulate audience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irony of this sequence, and what does it mak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think about the idea of ‘film’ in a wider context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has been said that the emotions that film produces ar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ometimes too manufactured or that small details are lost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s Amelie suggests. To what extent do you agree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u Revoir Les Enfants is Louis Malle’s film about lif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French boarding school during WWII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0:52 &gt; 01:13:1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boys take a break from classes to watch a Charlie Chaplin film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58" name="Picture 5" descr="Image_6b.png"/>
          <p:cNvPicPr/>
          <p:nvPr/>
        </p:nvPicPr>
        <p:blipFill>
          <a:blip r:embed="rId1"/>
          <a:stretch/>
        </p:blipFill>
        <p:spPr>
          <a:xfrm>
            <a:off x="2200320" y="3021120"/>
            <a:ext cx="47433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the scene that you have just watched in term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leisure activities in wartime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short comparison with your own leisure activiti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film is set over fifty years ago in wartime France –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scuss the contrast between a modern idea of leisur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the scene that Malle present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French comedy in which a postmaster in Southern Fran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ries to get transferred to a remote region in Northern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0:40 &gt; 02:19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hilippe and his family are driving through the south of France after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 visit on the Côte d’Azur in a town where they might move to.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63" name="Picture 4" descr="Image_6c.png"/>
          <p:cNvPicPr/>
          <p:nvPr/>
        </p:nvPicPr>
        <p:blipFill>
          <a:blip r:embed="rId1"/>
          <a:stretch/>
        </p:blipFill>
        <p:spPr>
          <a:xfrm>
            <a:off x="1674720" y="3354480"/>
            <a:ext cx="5815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0320" y="1271160"/>
            <a:ext cx="7718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ke a weather forecast relating to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can be done in any tense (past, present, future)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ilst viewing the clip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ick out 3 towns on the map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What do you notice about the geography of France?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Do you recognise places where you have been?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0320" y="1271160"/>
            <a:ext cx="7718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fter viewing the clip go on various websites to find 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to get from the south to the north of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repare a breakdown of means of transport, costs, tim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(Try http://maps.google.fr/maps/ms?hl=fr&amp;ie=UTF8&amp;msa=2)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two short paragraphs saying how you travelled ther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where you went on holiday last summer and where you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ll go next summer (in the south or the north of France)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 write two paragraphs comparing a holiday in the Nort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France with one in the South of France describing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differences in climate, weather, people, … (try using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mparative and superlative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3:11:00Z</dcterms:created>
  <dc:creator>Ben Planson</dc:creator>
  <dc:description/>
  <dc:language>en-US</dc:language>
  <cp:lastModifiedBy>Ben Planson</cp:lastModifiedBy>
  <dcterms:modified xsi:type="dcterms:W3CDTF">2012-04-15T23:15:54Z</dcterms:modified>
  <cp:revision>33</cp:revision>
  <dc:subject/>
  <dc:title>PowerPoint Presentation</dc:title>
</cp:coreProperties>
</file>