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069-5443-48A8-A30B-845F3913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0320" y="1272960"/>
            <a:ext cx="782640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0320" y="3741480"/>
            <a:ext cx="782640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B1B-B5BB-4327-8278-CBBF44CE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0320" y="1272960"/>
            <a:ext cx="381924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1080" y="1272960"/>
            <a:ext cx="381924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0320" y="3741480"/>
            <a:ext cx="381924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1080" y="3741480"/>
            <a:ext cx="381924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B405-F6BB-4D85-8019-4475A306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0320" y="1272960"/>
            <a:ext cx="252000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06680" y="1272960"/>
            <a:ext cx="252000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3040" y="1272960"/>
            <a:ext cx="252000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0320" y="3741480"/>
            <a:ext cx="252000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06680" y="3741480"/>
            <a:ext cx="252000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3040" y="3741480"/>
            <a:ext cx="252000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8B1B-C26D-48A9-8485-75000AB9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0320" y="1272960"/>
            <a:ext cx="7826400" cy="47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5AE-CE4C-47FB-B1ED-6DDCEC55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0320" y="1272960"/>
            <a:ext cx="7826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722-3B4F-41A1-A1D7-8E96ADA4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0320" y="1272960"/>
            <a:ext cx="381924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1080" y="1272960"/>
            <a:ext cx="381924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00A4-C179-4EA4-AB0E-36559A49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096D-EBF7-4D28-A44E-0D6BD0E8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49600" y="372960"/>
            <a:ext cx="6814800" cy="3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36F-7971-4221-9535-C2437BB3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0320" y="1272960"/>
            <a:ext cx="381924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1080" y="1272960"/>
            <a:ext cx="381924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0320" y="3741480"/>
            <a:ext cx="381924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C75A-7BDB-421B-9F25-245E88AC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0320" y="1272960"/>
            <a:ext cx="381924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1080" y="1272960"/>
            <a:ext cx="381924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1080" y="3741480"/>
            <a:ext cx="381924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E5EC-B67D-4A02-B0A1-560BA6AA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0320" y="1272960"/>
            <a:ext cx="381924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1080" y="1272960"/>
            <a:ext cx="381924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0320" y="3741480"/>
            <a:ext cx="782640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977-0AD0-4ADE-A27E-FB46CABD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TF_PPT_Background_100dpi.png"/>
          <p:cNvPicPr/>
          <p:nvPr/>
        </p:nvPicPr>
        <p:blipFill>
          <a:blip r:embed="rId2"/>
          <a:stretch/>
        </p:blipFill>
        <p:spPr>
          <a:xfrm>
            <a:off x="0" y="0"/>
            <a:ext cx="915336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Click to edit the title text format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0320" y="1272960"/>
            <a:ext cx="7826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9E70A-846D-4369-9C36-0B5ECDAE9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0" descr="FilmEdLogo.png"/>
          <p:cNvPicPr/>
          <p:nvPr/>
        </p:nvPicPr>
        <p:blipFill>
          <a:blip r:embed="rId3"/>
          <a:stretch/>
        </p:blipFill>
        <p:spPr>
          <a:xfrm>
            <a:off x="6927840" y="6383160"/>
            <a:ext cx="1658880" cy="273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FDALogo.png"/>
          <p:cNvPicPr/>
          <p:nvPr/>
        </p:nvPicPr>
        <p:blipFill>
          <a:blip r:embed="rId4"/>
          <a:stretch/>
        </p:blipFill>
        <p:spPr>
          <a:xfrm>
            <a:off x="2828880" y="6264360"/>
            <a:ext cx="1554120" cy="511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2" descr="LGTLogo.png"/>
          <p:cNvPicPr/>
          <p:nvPr/>
        </p:nvPicPr>
        <p:blipFill>
          <a:blip r:embed="rId5"/>
          <a:stretch/>
        </p:blipFill>
        <p:spPr>
          <a:xfrm>
            <a:off x="4911840" y="6343560"/>
            <a:ext cx="155412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TF_PPT_FrontPage_100dpi_Option2.png"/>
          <p:cNvPicPr/>
          <p:nvPr/>
        </p:nvPicPr>
        <p:blipFill>
          <a:blip r:embed="rId1"/>
          <a:stretch/>
        </p:blipFill>
        <p:spPr>
          <a:xfrm>
            <a:off x="0" y="0"/>
            <a:ext cx="9153360" cy="6865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5600" y="2865240"/>
            <a:ext cx="5024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a60c1c"/>
                </a:solidFill>
                <a:latin typeface="Geneva"/>
              </a:rPr>
              <a:t>MFL DVD Resource</a:t>
            </a:r>
            <a:endParaRPr b="0" lang="en-US" sz="40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628560" y="3505320"/>
            <a:ext cx="48592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7756a"/>
                </a:solidFill>
                <a:latin typeface="Geneva"/>
                <a:ea typeface="Geneva"/>
              </a:rPr>
              <a:t>TOPIC: RELATIONSHI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Jean de Florett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0320" y="1271160"/>
            <a:ext cx="78040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magine you are a child of the village who discovers the body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t the foot of the olive tree. You must write your story for the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village policeman, who will arrive by bicycle. Remember to give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pecific details, such as date, time, location, body position,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juries etc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orking in threes, prepare the interview of the two Soubeyran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by the Constable. He must ask at least six questions,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o which Cesar and Ugolin respond, but withou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elling the truth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Image_3e.png"/>
          <p:cNvPicPr/>
          <p:nvPr/>
        </p:nvPicPr>
        <p:blipFill>
          <a:blip r:embed="rId1"/>
          <a:stretch/>
        </p:blipFill>
        <p:spPr>
          <a:xfrm>
            <a:off x="3094200" y="2944800"/>
            <a:ext cx="5271840" cy="2979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Joyeux Noël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60320" y="1271160"/>
            <a:ext cx="771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Joyeux Noël is a 2005 film about the World War I unofficial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hristmas truce of December 1914, depicted through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 eyes of French, British and German soldier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Excerpt from the film: 50:52 &gt; 54:18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The soldiers converge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on Christmas Eve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for the first time.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Joyeux Noël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60320" y="1271520"/>
            <a:ext cx="771840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o the soldiers do to introduce one to another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o they exchange? What do they shar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is the cat called and what is it’s significanc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Joyeux Noël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60320" y="1271520"/>
            <a:ext cx="771840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how two pictures of your civilian life, to introduc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yourself to the enemy: what are these two picture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raw your two photos and write a description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Et voici une photo de mon chien qui…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groups of three, play the roles of three soldiers of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ifferent nationalities. Everyone must introduce himself to the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thers by showing pictures of his civilian life. Each soldier mus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peak for at least 60 seconds and ask three questions to other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Image_4e.png"/>
          <p:cNvPicPr/>
          <p:nvPr/>
        </p:nvPicPr>
        <p:blipFill>
          <a:blip r:embed="rId1"/>
          <a:stretch/>
        </p:blipFill>
        <p:spPr>
          <a:xfrm>
            <a:off x="1816200" y="2921040"/>
            <a:ext cx="5565600" cy="3009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Persepol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0320" y="1271160"/>
            <a:ext cx="771840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Persepolis is the poignant story of a young gir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Iran during the Islamic Revolution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Excerpt from the film: 01:21:38 &gt; 01:22:48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Mami talks about her divorce.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Persepol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0320" y="1282680"/>
            <a:ext cx="77184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Marji plucks up courage to tell her grandmother that she want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o divorce her husband, but the grandmother is not as shocked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s Marji thought she would be. Why did Marji assume her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grandmother would be shocked? Why do you think she isn’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Mami says that a first marriage is just practice for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 second but Marji sees it as a disaster. Who is righ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rite a short article explaining your point of view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Persepol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0320" y="1282680"/>
            <a:ext cx="77184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Prepare a short speech to introduce your point of view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n divorce and prepare a defense of it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n try to put together all of the opposing viewpoint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to a short speech too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Image_1e.png"/>
          <p:cNvPicPr/>
          <p:nvPr/>
        </p:nvPicPr>
        <p:blipFill>
          <a:blip r:embed="rId1"/>
          <a:stretch/>
        </p:blipFill>
        <p:spPr>
          <a:xfrm>
            <a:off x="1460520" y="3273480"/>
            <a:ext cx="6216480" cy="268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Ameli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60320" y="127152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Jean-Pierre Jeunet’s ‘fantasy-realist’ film follows a woman,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o discovers her true vocation in lif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03:12 &gt; 06:35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We learn about Amelie’s home life as a child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and see her relationship with her parents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Ameli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0320" y="1271160"/>
            <a:ext cx="77184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raw a family tree for the Simpsons or other fictitious family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rom TV or film. Explain the relationship between various family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members. Use a dictionary to help you. Write down a short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escription of a ‘typical’ family network. How would you describ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your own parents / carers likes and dislike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ind three unusual adjectives to describe each of Amelie’s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parents. Write this into a paragraph. Write down in thre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olumns their likes / dislikes and the patterns you can se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escribe Amelie’s relationship with her parents. How do you think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ir characters might have influenced her? Why does Amelie no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go to school? How might this impact on her as an adul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ontent Placeholder 2"/>
          <p:cNvSpPr/>
          <p:nvPr/>
        </p:nvSpPr>
        <p:spPr>
          <a:xfrm>
            <a:off x="760320" y="1265400"/>
            <a:ext cx="77184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Create a mind map of all the characters you have seen so f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You are Amelie as a young girl. Write an entry in your dia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Use at least two tenses and justify your opinions of your fami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Find a moment that was designed to be sad, and one that wa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comic. Describe the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Why, in your opinion, is the director showing us the par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in this very particular style? What impact does it have on you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Ameli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Au Revoir les Enfant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0320" y="128268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u Revoir Les Enfants is Louis Malle’s film about life in a French boarding school during WWII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00:21 &gt; 02:21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Julien bids goodbye to his mother at the train station before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the start of school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  <p:pic>
        <p:nvPicPr>
          <p:cNvPr id="57" name="Picture 3" descr="Image_2e.png"/>
          <p:cNvPicPr/>
          <p:nvPr/>
        </p:nvPicPr>
        <p:blipFill>
          <a:blip r:embed="rId1"/>
          <a:stretch/>
        </p:blipFill>
        <p:spPr>
          <a:xfrm>
            <a:off x="2343240" y="3232080"/>
            <a:ext cx="433368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Au Revoir les Enfant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0320" y="127152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ow would you describe Julien’s relationship with his mother –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s it a typical parent-child relationship in your opinion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ow would you compare the relationship Julien and his brother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rançois have with their mother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adjectives can you find that describe personality trait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ow would you use these to describe a typical parent / child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relationship? Use at least five adjective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Au Revoir les Enfant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0320" y="127152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rite Julien’s first letter home to his mother. Include detail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f the trip, his emotions and a description of the school,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cluding the people he meet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y do you think Julien pretends he does not care tha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e is leaving his home?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ow would you feel in Julien’s situation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escribe what is not being said. Include eye contact,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omposition of the scene, appearance etc…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Jean de Florett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0320" y="1271520"/>
            <a:ext cx="77184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Jean de Florette is a French historical drama directed by Claud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Berri, based on a novel by Marcel Pagnol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Excerpt from the film: 13:24 &gt; 15:12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The Soubeyrans visit a neighbour to negotiate a land-buying deal.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</p:txBody>
      </p:sp>
      <p:pic>
        <p:nvPicPr>
          <p:cNvPr id="64" name="Picture 5" descr="JeanDeFlorette.006.png"/>
          <p:cNvPicPr/>
          <p:nvPr/>
        </p:nvPicPr>
        <p:blipFill>
          <a:blip r:embed="rId1"/>
          <a:stretch/>
        </p:blipFill>
        <p:spPr>
          <a:xfrm>
            <a:off x="2332080" y="2922480"/>
            <a:ext cx="4335480" cy="3060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Jean de Florett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0320" y="1275840"/>
            <a:ext cx="7718400" cy="49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is the attitude of the neighbour towards the Soubeyrans?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ow does he speak to them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esar Soubeyran, how does he behave? What does he do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is your reaction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2:55:09Z</dcterms:created>
  <dc:creator>Ben Planson</dc:creator>
  <dc:description/>
  <dc:language>en-US</dc:language>
  <cp:lastModifiedBy>Ben Planson</cp:lastModifiedBy>
  <dcterms:modified xsi:type="dcterms:W3CDTF">2012-04-15T23:14:28Z</dcterms:modified>
  <cp:revision>37</cp:revision>
  <dc:subject/>
  <dc:title>PowerPoint Presentation</dc:title>
</cp:coreProperties>
</file>