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CEA-7E23-408A-925F-9E3E3EE2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7804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787560"/>
            <a:ext cx="7804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ECE-A7A7-4774-A55A-80EC8E3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920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78756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9200" y="378756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BE3-0CA5-4783-A776-4AEB0D08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9120" y="127332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920" y="127332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78756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9120" y="378756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920" y="3787560"/>
            <a:ext cx="25128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CE3-83EC-401B-AB3E-D89ED498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73320"/>
            <a:ext cx="78040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229-0FFF-4D18-8042-189E74C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7804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725-448A-49E5-942D-74A674C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3808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73320"/>
            <a:ext cx="3808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41F-B7EA-4B5C-BD7E-3E2874D7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C21-EF02-417E-A5E2-3DEAA41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911-2A89-4F2E-BEC4-60A159B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9200" y="1273320"/>
            <a:ext cx="3808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78756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19D-DBB6-405F-A04C-7F1609E9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3808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920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9200" y="378756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7E8-F36F-4481-AF44-4036744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9200" y="1273320"/>
            <a:ext cx="3808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787560"/>
            <a:ext cx="7804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FBE-FC0F-4FB7-A5B8-1D05912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73320"/>
            <a:ext cx="7804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C948E-3760-4733-A90C-7C2067F6D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0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608040" y="3505320"/>
            <a:ext cx="486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SOCIAL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0320" y="1271520"/>
            <a:ext cx="7718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discussion quickly degenerates into an argument about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nationality. Why do you think this gets so heated so quickl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it was a good idea for the teacher to allow th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ype of discussion to happen in the classroom? What are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guments both for and against this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mage_4f.png"/>
          <p:cNvPicPr/>
          <p:nvPr/>
        </p:nvPicPr>
        <p:blipFill>
          <a:blip r:embed="rId1"/>
          <a:stretch/>
        </p:blipFill>
        <p:spPr>
          <a:xfrm>
            <a:off x="3122640" y="2928960"/>
            <a:ext cx="5192640" cy="2938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0320" y="1273320"/>
            <a:ext cx="7718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a Haine was written, co-edited, and directed by Mathieu Kassovitz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is about three teenage friends and their struggle to liv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banlieues (outskirts) of Par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08 &gt; 05:1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pening credit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f the film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0320" y="1271520"/>
            <a:ext cx="7804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happening in this scene? Where is this happening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is the tone of the news repor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are a journalist living in the area where the riots took plac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report for your newspaper describing the events and 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iving your opinion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e the conversation that takes place between two elderly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sidents of this area the morning after the riots. What were thei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eriences? What do they think? How do they see the futur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0320" y="1271520"/>
            <a:ext cx="7718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the opening scene of the film which show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riot scene in Paris. Describe what is going o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is is happening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 you think the media portray the event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e they on the side of the police or the protagonist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mpression is given by using black and white in the fil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es the music affect this scen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it’s real news footage, and wh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0320" y="1271520"/>
            <a:ext cx="7718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rsepolis is the poignant story of a young girl in Iran during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Islamic Revolutio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49:45 &gt; 51:29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Marji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troduces herself as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rench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8" name="Picture 3" descr="Image_Social.png"/>
          <p:cNvPicPr/>
          <p:nvPr/>
        </p:nvPicPr>
        <p:blipFill>
          <a:blip r:embed="rId1"/>
          <a:stretch/>
        </p:blipFill>
        <p:spPr>
          <a:xfrm>
            <a:off x="1760400" y="2941560"/>
            <a:ext cx="5626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0320" y="1271520"/>
            <a:ext cx="7718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tch the clip and in pairs discuss why you think Marji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aid she was French and her reaction afterward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pairs write thought bubbles for Marji to show what sh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s thinking when she said she was French and what s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s thinking when she got annoyed with the Austrian girl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0320" y="1271520"/>
            <a:ext cx="7718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feel makes someone feel that they belong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a particular nation or societ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have you done, or what might you do, to ‘fit in’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th a social group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mage_1f.png"/>
          <p:cNvPicPr/>
          <p:nvPr/>
        </p:nvPicPr>
        <p:blipFill>
          <a:blip r:embed="rId1"/>
          <a:stretch/>
        </p:blipFill>
        <p:spPr>
          <a:xfrm>
            <a:off x="3778200" y="3016080"/>
            <a:ext cx="4437000" cy="273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u Revoir Les Enfants is Louis Malle’s film about lif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French boarding school during WWII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59:19 &gt; 01:02:19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ère Jean gives a sermon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o the schoolboys and their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amilies on the importance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f being charitable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0320" y="1274400"/>
            <a:ext cx="7718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search the ethnic, religious and cultural make up of Fran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the impact changes have been having on French tradition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recent tim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scuss what you have discovered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the congregation and the atmosphere inside the church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ry to summarise in your own words the messag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sermo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760320" y="1276200"/>
            <a:ext cx="7718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Research for a group presentation the various traditions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eremonies/steps in a religion of your cho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Père Jean, the headmaster of Julien’s school, gives a ser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to the schoolboys and their families on the importance of b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haritable, to the offence of so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Why do you think one man walks ou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age_2f.png"/>
          <p:cNvPicPr/>
          <p:nvPr/>
        </p:nvPicPr>
        <p:blipFill>
          <a:blip r:embed="rId1"/>
          <a:stretch/>
        </p:blipFill>
        <p:spPr>
          <a:xfrm>
            <a:off x="2671920" y="3430440"/>
            <a:ext cx="561492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0320" y="127476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a semi-autobiographical account of François Marin’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eriences as a French language and literature teach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middle school in the 20th arrondissement of Par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47:53 &gt; 48:48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smeralda reluctantly reads out her ‘self portrait’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bout her home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life and her plan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or the future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0320" y="127476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troduce yourself in a similar style. What might be controversia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bout you to your classmates? What might surprise the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it right for the teacher always to pick up on any use of mor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formal registers? Why/why not? Why do you think Franço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sists it is importan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0320" y="127476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 you think her home life has affected her aspiration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es her comment about the police suggest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at François is correct when he tells her to write i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tandard French, or should she be able to choose how to expres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erself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Image_3f.png"/>
          <p:cNvPicPr/>
          <p:nvPr/>
        </p:nvPicPr>
        <p:blipFill>
          <a:blip r:embed="rId1"/>
          <a:stretch/>
        </p:blipFill>
        <p:spPr>
          <a:xfrm>
            <a:off x="1041480" y="2406600"/>
            <a:ext cx="7047000" cy="3005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0320" y="127476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  <a:ea typeface="Verdana"/>
              </a:rPr>
              <a:t>Excerpt from the film: 01.16.35 &gt; 01.17.32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  <a:ea typeface="Verdana"/>
              </a:rPr>
              <a:t>Carl explains why he supports the French football team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0320" y="1271520"/>
            <a:ext cx="7718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uring a class discussion one of the boys starts to talk ab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African Cup of Nations, a football competition about to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gin. He is clearly annoyed that some of the other boys see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regard it as very important whereas he clearly doesn’t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at he is immediately confronted with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question about whom he supports? What might this mea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1:41:20Z</dcterms:created>
  <dc:creator>Ben Planson</dc:creator>
  <dc:description/>
  <dc:language>en-US</dc:language>
  <cp:lastModifiedBy>Ben Planson</cp:lastModifiedBy>
  <dcterms:modified xsi:type="dcterms:W3CDTF">2012-04-15T23:14:57Z</dcterms:modified>
  <cp:revision>43</cp:revision>
  <dc:subject/>
  <dc:title>PowerPoint Presentation</dc:title>
</cp:coreProperties>
</file>