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3BFC-4F62-42E4-AB39-BB89E584E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0320" y="1265040"/>
            <a:ext cx="7804080" cy="22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0320" y="3733560"/>
            <a:ext cx="7804080" cy="22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3F23-9237-4ABA-9760-D8F4551D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0320" y="1265040"/>
            <a:ext cx="3808080" cy="22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59200" y="1265040"/>
            <a:ext cx="3808080" cy="22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0320" y="3733560"/>
            <a:ext cx="3808080" cy="22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59200" y="3733560"/>
            <a:ext cx="3808080" cy="22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ECCC-6355-4C02-B15B-0CF2B5266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0320" y="1265040"/>
            <a:ext cx="2512800" cy="22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99120" y="1265040"/>
            <a:ext cx="2512800" cy="22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920" y="1265040"/>
            <a:ext cx="2512800" cy="22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0320" y="3733560"/>
            <a:ext cx="2512800" cy="22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99120" y="3733560"/>
            <a:ext cx="2512800" cy="22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920" y="3733560"/>
            <a:ext cx="2512800" cy="22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FD49-5454-43C3-8631-10B8C4B78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0320" y="1265040"/>
            <a:ext cx="7804080" cy="47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4EAC-7481-42D1-BE0A-0D91192D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0320" y="1265040"/>
            <a:ext cx="780408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828B-42AA-4FBA-961E-9D0527BF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0320" y="1265040"/>
            <a:ext cx="380808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65040"/>
            <a:ext cx="380808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ABB2-E045-41DC-A02F-D27C94AB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8730-EFF1-4CF2-BA8B-AE1FD3AC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49600" y="372960"/>
            <a:ext cx="6814800" cy="3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0380-5DD3-4AF8-AAE5-8B1979D4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0320" y="1265040"/>
            <a:ext cx="3808080" cy="22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9200" y="1265040"/>
            <a:ext cx="380808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0320" y="3733560"/>
            <a:ext cx="3808080" cy="22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FC37-6D4C-4EDD-827E-9AF57B6B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0320" y="1265040"/>
            <a:ext cx="380808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9200" y="1265040"/>
            <a:ext cx="3808080" cy="22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59200" y="3733560"/>
            <a:ext cx="3808080" cy="22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F8A8-EAEA-4FC2-A7E7-BF4147A5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0320" y="1265040"/>
            <a:ext cx="3808080" cy="22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59200" y="1265040"/>
            <a:ext cx="3808080" cy="22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0320" y="3733560"/>
            <a:ext cx="7804080" cy="22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21B1-9607-4F43-A571-2083C929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TF_PPT_Background_100dpi.png"/>
          <p:cNvPicPr/>
          <p:nvPr/>
        </p:nvPicPr>
        <p:blipFill>
          <a:blip r:embed="rId2"/>
          <a:stretch/>
        </p:blipFill>
        <p:spPr>
          <a:xfrm>
            <a:off x="0" y="0"/>
            <a:ext cx="9153360" cy="6865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Click to edit the title text format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0320" y="1265040"/>
            <a:ext cx="780408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8FF095-5D87-4E9D-A88C-942971B71E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11" descr="FilmEdLogo.png"/>
          <p:cNvPicPr/>
          <p:nvPr/>
        </p:nvPicPr>
        <p:blipFill>
          <a:blip r:embed="rId3"/>
          <a:stretch/>
        </p:blipFill>
        <p:spPr>
          <a:xfrm>
            <a:off x="6927840" y="6383160"/>
            <a:ext cx="1658880" cy="2732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2" descr="FDALogo.png"/>
          <p:cNvPicPr/>
          <p:nvPr/>
        </p:nvPicPr>
        <p:blipFill>
          <a:blip r:embed="rId4"/>
          <a:stretch/>
        </p:blipFill>
        <p:spPr>
          <a:xfrm>
            <a:off x="2828880" y="6264360"/>
            <a:ext cx="1554120" cy="5112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3" descr="LGTLogo.png"/>
          <p:cNvPicPr/>
          <p:nvPr/>
        </p:nvPicPr>
        <p:blipFill>
          <a:blip r:embed="rId5"/>
          <a:stretch/>
        </p:blipFill>
        <p:spPr>
          <a:xfrm>
            <a:off x="4911840" y="6343560"/>
            <a:ext cx="155412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TF_PPT_FrontPage_100dpi_Option2.png"/>
          <p:cNvPicPr/>
          <p:nvPr/>
        </p:nvPicPr>
        <p:blipFill>
          <a:blip r:embed="rId1"/>
          <a:stretch/>
        </p:blipFill>
        <p:spPr>
          <a:xfrm>
            <a:off x="0" y="0"/>
            <a:ext cx="9153360" cy="6865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25600" y="2865240"/>
            <a:ext cx="502416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a60c1c"/>
                </a:solidFill>
                <a:latin typeface="Geneva"/>
              </a:rPr>
              <a:t>MFL DVD Resource</a:t>
            </a:r>
            <a:endParaRPr b="0" lang="en-US" sz="40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617400" y="3505320"/>
            <a:ext cx="486108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7756a"/>
                </a:solidFill>
                <a:latin typeface="Geneva"/>
                <a:ea typeface="Geneva"/>
              </a:rPr>
              <a:t>TOPIC: 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Bienvenue chez les Ch’ti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60320" y="1282680"/>
            <a:ext cx="780408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Pretending to be disabled is an unusual tactic.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is being attempted here is seen as ‘shameful’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rite what Philippe felt just after he stood up to shake hands.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How does the director try to make this scene funny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Is it successful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Image_4g.png"/>
          <p:cNvPicPr/>
          <p:nvPr/>
        </p:nvPicPr>
        <p:blipFill>
          <a:blip r:embed="rId1"/>
          <a:stretch/>
        </p:blipFill>
        <p:spPr>
          <a:xfrm>
            <a:off x="2903400" y="3595680"/>
            <a:ext cx="5546880" cy="23716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Entre Les Murs -The Clas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760320" y="1282680"/>
            <a:ext cx="77184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A semi-autobiographical account of François Marin’s experiences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as a French language and literature teacher in a middle school in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he 20th arrondissement of Paris.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Excerpt from the film: 01:56 &gt; 03:37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On arrival at school on the first day of term, teachers introduce themselves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in the staff room, mentioning their subject and how long they have been at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the school. 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Entre Les Murs -The Clas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60320" y="1282320"/>
            <a:ext cx="771840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ith the sound off, describe what is going on in this scene.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ere and who are these people and what might they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be talking about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One of the teachers mentions that he used to work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in the suburbs, and that he is happy he is now in the city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adjectives would you use to describe the suburbs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and more urban settings in the UK? How do you think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it might be different in Paris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Content Placeholder 2"/>
          <p:cNvSpPr/>
          <p:nvPr/>
        </p:nvSpPr>
        <p:spPr>
          <a:xfrm>
            <a:off x="760320" y="1282680"/>
            <a:ext cx="77184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Geneva"/>
              </a:rPr>
              <a:t>You are just starting your first day as a teacher at this school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Geneva"/>
              </a:rPr>
              <a:t>Choose five adjectives to describe yourself to your ne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Geneva"/>
              </a:rPr>
              <a:t>colleagu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Geneva"/>
              </a:rPr>
              <a:t>Later on that evening you describe two of your new colleag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Geneva"/>
              </a:rPr>
              <a:t>to friends. What impression do you have of them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Geneva"/>
              </a:rPr>
              <a:t>On arrival at school on the first day of term, teachers introdu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Geneva"/>
              </a:rPr>
              <a:t>themselves in the staff room, mentioning their subject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Geneva"/>
              </a:rPr>
              <a:t>how long they have been at the school. What impres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Geneva"/>
              </a:rPr>
              <a:t>do we get of their perceptions of the school, where th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Geneva"/>
              </a:rPr>
              <a:t>work and the way they see their jobs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Entre Les Murs -The Clas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Image_5g.png"/>
          <p:cNvPicPr/>
          <p:nvPr/>
        </p:nvPicPr>
        <p:blipFill>
          <a:blip r:embed="rId1"/>
          <a:stretch/>
        </p:blipFill>
        <p:spPr>
          <a:xfrm>
            <a:off x="1835280" y="3359160"/>
            <a:ext cx="5418000" cy="25779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Les Choriste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70040" y="1276200"/>
            <a:ext cx="780552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Set in a correctional house for ‘wayward boys’, the film charts the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progress of new music teacher Clement Mathieu and his attempts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o instil a little love and hope into his challenging students.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Excerpt from the film: 17:48 &gt; 18:41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The teacher reflects on his first day and wonders what he's doing there.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Les Choriste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60320" y="1278000"/>
            <a:ext cx="79264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List the future job aspirations of the children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Do you think they're realistic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y do you think they all aspire to have such ‘fabulous’ jobs?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How does the children’s list of jobs make the supervisor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feel about his own? What does he say that suggests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he is unhappy at this school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Les Choriste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60320" y="1278000"/>
            <a:ext cx="79264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Plan an interview with an actor on the topic of work,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using a variety of question words. Use the future tense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o express your opinions and questions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did you want to be when you were that age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do you want to be now and how has that changed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do you see yourself doing ten years time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Image_1g.png"/>
          <p:cNvPicPr/>
          <p:nvPr/>
        </p:nvPicPr>
        <p:blipFill>
          <a:blip r:embed="rId1"/>
          <a:stretch/>
        </p:blipFill>
        <p:spPr>
          <a:xfrm>
            <a:off x="1219320" y="2963880"/>
            <a:ext cx="6797520" cy="2932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Amelie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60320" y="1306440"/>
            <a:ext cx="77184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Jean-Pierre Jeunet’s ‘fantasy-realist’ film follows a woman,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o discovers her true vocation in life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Excerpt from the film: 09:18 &gt; 10.45 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We are introduced to Amelie’s workplace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Amelie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60320" y="1306080"/>
            <a:ext cx="77184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Make a list of 10-15 jobs in French and then find 3 qualities you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need for each job. E.g. likes travelling, hardworking, good with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heir hands, smart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For each person introduced in this clip find three adjectives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o describe them. Is there a common adjective to describe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all of them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do you see as the key differences between a French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and English café? How relevant is the café itself as opposed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o the people in it? Which would you prefer to work in and why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760320" y="1306080"/>
            <a:ext cx="77184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rite a job advert for a vacancy at the café. Describe clearly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sort of qualities you are looking for in the applicant and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the job would entail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rite an application for the job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In pairs, prepare and conduct the interview.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Do you think Amelie enjoys or ‘fits into’ her workplace? Why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At the end of the scene a beggar says “I never work on Sundays”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–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is the effect of this comment on how work and money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are seen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Amelie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Image_2g.png"/>
          <p:cNvPicPr/>
          <p:nvPr/>
        </p:nvPicPr>
        <p:blipFill>
          <a:blip r:embed="rId1"/>
          <a:stretch/>
        </p:blipFill>
        <p:spPr>
          <a:xfrm>
            <a:off x="1765440" y="2963880"/>
            <a:ext cx="5486400" cy="29811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Couscou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60320" y="1306440"/>
            <a:ext cx="77184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his film is set amongst the North African community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in the Mediterranean port of Sète.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Excerpt from the film: 05:30 &gt; 06:43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Slimane’s boss informs him that he has cut his hours.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Couscou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60320" y="1306440"/>
            <a:ext cx="77184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sort of job do these men do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ich of the men is the boss? What makes you think that?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Slimane’s boss informs him that he has cut his hours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In pairs, write the script for a short role-play between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a boss and an employee. The boss must inform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he employee of a cut in hours incorporating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some connectives into their dialogue.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Couscou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60320" y="1306440"/>
            <a:ext cx="77184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types of jobs interest you, and what are your plans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Are you hopeful about the current job market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Do you plan to work for yourself or for a company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influences your thinking on this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Image_3g.png"/>
          <p:cNvPicPr/>
          <p:nvPr/>
        </p:nvPicPr>
        <p:blipFill>
          <a:blip r:embed="rId1"/>
          <a:stretch/>
        </p:blipFill>
        <p:spPr>
          <a:xfrm>
            <a:off x="1390680" y="3257640"/>
            <a:ext cx="6375240" cy="27176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Bienvenue chez les Ch’ti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60320" y="1282680"/>
            <a:ext cx="77184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A French comedy in which a postmaster in Southern France gets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ransferred to a remote region in Northern France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Excerpt from the film: 06:30 &gt; 09:26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Philippe is celebrating his move to the Côte d’Azur when he’s called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to his office as an HR inspector comes to check his application form.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Content Placeholder 2"/>
          <p:cNvSpPr/>
          <p:nvPr/>
        </p:nvSpPr>
        <p:spPr>
          <a:xfrm>
            <a:off x="760320" y="1282680"/>
            <a:ext cx="771840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Geneva"/>
              </a:rPr>
              <a:t>A postmaster in Southern France tries to make life easier for hi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Geneva"/>
              </a:rPr>
              <a:t>depressive wife by getting a transfer to the Cote d’Azur usi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Geneva"/>
              </a:rPr>
              <a:t>dubious mean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Geneva"/>
              </a:rPr>
              <a:t>Put yourself in the position of a disabled person who has no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Geneva"/>
              </a:rPr>
              <a:t>been offered a job due to their disability and write a letter of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Geneva"/>
              </a:rPr>
              <a:t>complaint to H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Geneva"/>
              </a:rPr>
              <a:t>OR a non-disabled person who hasn’t got the job beca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Genev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Geneva"/>
              </a:rPr>
              <a:t>a disabled person got the job instead. Prepare a role-play f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Geneva"/>
              </a:rPr>
              <a:t>an interview. Write up questions and answers to a job interview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Geneva"/>
              </a:rPr>
              <a:t>Include issues relating to disabilities or other work iss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Geneva"/>
              </a:rPr>
              <a:t>such as discrimina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Bienvenue chez les Ch’ti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12:44:29Z</dcterms:created>
  <dc:creator>Ben Planson</dc:creator>
  <dc:description/>
  <dc:language>en-US</dc:language>
  <cp:lastModifiedBy>Ben Planson</cp:lastModifiedBy>
  <dcterms:modified xsi:type="dcterms:W3CDTF">2012-04-15T23:12:56Z</dcterms:modified>
  <cp:revision>46</cp:revision>
  <dc:subject/>
  <dc:title>PowerPoint Presentation</dc:title>
</cp:coreProperties>
</file>